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BDC-C685-48D9-B6AE-2F84239A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5A1-13CD-4E38-8533-BD1F821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4DC-BBFE-474E-884C-8320A358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FA7-C4CB-4FC0-899D-91721337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090-9272-4815-BB87-3E4C9734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5821-5180-4672-B8E2-1BBDC7B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FA0-A776-40B8-B28B-34191EA2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5C69-986D-4E95-8F93-EC84FF3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471-FCCF-4768-8E59-AE50E53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B67D-84B9-4FBD-A235-EB5CE237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52A6-31BE-4A4C-9C7B-28D2242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CCE-3FC5-43F3-A3F3-7CA2F77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48CC-E2B9-4304-AE97-B3B73CF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6C3-41BD-4F62-9D34-F52424F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FCB7-377A-4AC5-AAC1-2D8BCC8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46C0-B517-409A-A986-C3382326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864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5160" y="525780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864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5160" y="6014160"/>
            <a:ext cx="2453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64F-6668-41D9-AF1F-E03EFB38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678-8CA8-4B8E-9441-503567D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730-0387-4F60-909F-2B95818B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842-2504-485D-801D-3746568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259-28C1-483F-AF71-58D562E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24C-005F-4D31-AF65-1329938A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601416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609-4A32-408A-B3B5-306B78E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5257800"/>
            <a:ext cx="37180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6014160"/>
            <a:ext cx="76197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B4C-3DC3-4E5D-8EEE-F635BF0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A811-5A11-45FD-9868-D379ED1F6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D31-BE13-404D-96C0-8CEDC3B70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© Wendy Russell</dc:creator>
  <dc:description/>
  <dc:language>en-US</dc:language>
  <cp:lastModifiedBy>Wendy Russell</cp:lastModifiedBy>
  <dcterms:modified xsi:type="dcterms:W3CDTF">2007-08-24T18:19:07Z</dcterms:modified>
  <cp:revision>36</cp:revision>
  <dc:subject>Halloween Blank Story Template</dc:subject>
  <dc:title>PowerPoint Halloween Blank Story Template</dc:title>
</cp:coreProperties>
</file>